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B341D-2B4B-42E8-A2B6-35E8D5BEA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96AD5-CCA1-44C4-9BAA-2083501F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88865-E377-4A8C-BBFF-28E5911B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A716B-AD4C-41BD-BFE5-58C5F18DA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DA79-185A-4F58-AD10-5B36D3EAF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388C-11EA-41D3-9C45-E7E9A458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86F5-C442-4E16-8513-050EB077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C949-4C0C-4090-99E3-F3E898E0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5649-BBFF-47C6-903B-F40DAE2C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D7AF-CB12-49DE-B9EA-02CC0023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C617-D2D2-4F1C-9ACC-17786C7D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1A870-01D5-43DF-9ACB-BB4D9B9A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F751-A14B-4E14-9D29-17503921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AAC5-E736-4E9B-98B8-B67AC51B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D3E5-3F88-473C-9F8F-AA237D62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F737-D738-4106-A705-84902550B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5DB8-95EA-40CB-99BE-3F0303C32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5EA95-9655-42E1-9ABC-E2F5952F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5CE37-2B35-4815-8779-D7D2473E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34058-FF62-4AD4-A9E4-6D96F207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97A6A-8B13-41D5-AFCD-527B729C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40672-8322-4111-A253-10622715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C9F35-2860-4FBD-B19D-436B0AD4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62C91-6C99-4BE2-9B7B-249E4513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EC82-1461-4CAF-BA10-82B5E3B6B7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2EF9-3467-4EC4-9C63-8DF678EE97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ill Cipher Help Pres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764712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polygraphic cipher was developed by the mathematician Lester Hill in 1929 - called the Hill Ciph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akes 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cessive plaintext letters and substitutes for them 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iphertext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DB2C8-20C8-4567-B393-EFEDC905D6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3276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haracter is assigned a numerical val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0, b = 1, . . ., z = 2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 the transformation of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given by 3 equations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80320" y="4700520"/>
            <a:ext cx="364068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(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mod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(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mod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(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mod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942560" y="4664160"/>
            <a:ext cx="3841560" cy="1561680"/>
            <a:chOff x="1942560" y="4664160"/>
            <a:chExt cx="3841560" cy="1561680"/>
          </a:xfrm>
        </p:grpSpPr>
        <p:grpSp>
          <p:nvGrpSpPr>
            <p:cNvPr id="119" name=""/>
            <p:cNvGrpSpPr/>
            <p:nvPr/>
          </p:nvGrpSpPr>
          <p:grpSpPr>
            <a:xfrm>
              <a:off x="3794040" y="4664160"/>
              <a:ext cx="1990080" cy="1561680"/>
              <a:chOff x="3794040" y="4664160"/>
              <a:chExt cx="1990080" cy="1561680"/>
            </a:xfrm>
          </p:grpSpPr>
          <p:sp>
            <p:nvSpPr>
              <p:cNvPr id="120" name=""/>
              <p:cNvSpPr/>
              <p:nvPr/>
            </p:nvSpPr>
            <p:spPr>
              <a:xfrm>
                <a:off x="3794040" y="4721040"/>
                <a:ext cx="40896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584240" y="4692600"/>
                <a:ext cx="40932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374800" y="4664160"/>
                <a:ext cx="40932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94040" y="5263920"/>
                <a:ext cx="40896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584240" y="5235480"/>
                <a:ext cx="40932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74800" y="5207040"/>
                <a:ext cx="409320" cy="40896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794040" y="5816520"/>
                <a:ext cx="40896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584240" y="5788080"/>
                <a:ext cx="409320" cy="40896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374800" y="5759280"/>
                <a:ext cx="40932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1942560" y="528480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K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14006-3BFC-411C-9A70-67B7376BCD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3160" y="1636560"/>
            <a:ext cx="774396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ill cipher is really a matrix multiplic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ciphering key is an n x n matrix,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ciphering key is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if n = 3 one possible key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053000" y="4057560"/>
            <a:ext cx="3120120" cy="1074240"/>
            <a:chOff x="1053000" y="4057560"/>
            <a:chExt cx="3120120" cy="1074240"/>
          </a:xfrm>
        </p:grpSpPr>
        <p:sp>
          <p:nvSpPr>
            <p:cNvPr id="133" name=""/>
            <p:cNvSpPr/>
            <p:nvPr/>
          </p:nvSpPr>
          <p:spPr>
            <a:xfrm>
              <a:off x="1706400" y="4214880"/>
              <a:ext cx="2466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7  17  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1  18  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   2  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53000" y="4057560"/>
              <a:ext cx="2974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 = 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(       )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978440" y="4073400"/>
            <a:ext cx="3331800" cy="1034640"/>
            <a:chOff x="4978440" y="4073400"/>
            <a:chExt cx="3331800" cy="1034640"/>
          </a:xfrm>
        </p:grpSpPr>
        <p:sp>
          <p:nvSpPr>
            <p:cNvPr id="136" name=""/>
            <p:cNvSpPr/>
            <p:nvPr/>
          </p:nvSpPr>
          <p:spPr>
            <a:xfrm>
              <a:off x="5843520" y="4191120"/>
              <a:ext cx="2466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   9  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5  17  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4   0  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78440" y="4073400"/>
              <a:ext cx="3183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(       )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341720" y="547992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   ‘n o w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98520" y="570564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14 2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319560" y="5310360"/>
            <a:ext cx="4036320" cy="1458360"/>
            <a:chOff x="3319560" y="5310360"/>
            <a:chExt cx="4036320" cy="1458360"/>
          </a:xfrm>
        </p:grpSpPr>
        <p:sp>
          <p:nvSpPr>
            <p:cNvPr id="141" name=""/>
            <p:cNvSpPr/>
            <p:nvPr/>
          </p:nvSpPr>
          <p:spPr>
            <a:xfrm>
              <a:off x="3319560" y="5334120"/>
              <a:ext cx="2854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3351240" y="5310360"/>
              <a:ext cx="4004640" cy="801720"/>
              <a:chOff x="3351240" y="5310360"/>
              <a:chExt cx="4004640" cy="801720"/>
            </a:xfrm>
          </p:grpSpPr>
          <p:sp>
            <p:nvSpPr>
              <p:cNvPr id="143" name=""/>
              <p:cNvSpPr/>
              <p:nvPr/>
            </p:nvSpPr>
            <p:spPr>
              <a:xfrm>
                <a:off x="4398840" y="5343840"/>
                <a:ext cx="3664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3351240" y="5310360"/>
                <a:ext cx="4004640" cy="801720"/>
                <a:chOff x="3351240" y="5310360"/>
                <a:chExt cx="4004640" cy="801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3511080" y="5446800"/>
                  <a:ext cx="91224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17 17  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21 18 2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2  2 19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351240" y="5310360"/>
                  <a:ext cx="36648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000000"/>
                      </a:solidFill>
                      <a:latin typeface="Arial"/>
                    </a:rPr>
                    <a:t>(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820400" y="5343840"/>
                  <a:ext cx="253548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000000"/>
                      </a:solidFill>
                      <a:latin typeface="Arial"/>
                    </a:rPr>
                    <a:t>) = ( )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mod 26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230720" y="5337360"/>
                  <a:ext cx="36648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618440" y="5470560"/>
                  <a:ext cx="36360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1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1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2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836320" y="5451480"/>
                  <a:ext cx="36360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2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1" name=""/>
          <p:cNvGrpSpPr/>
          <p:nvPr/>
        </p:nvGrpSpPr>
        <p:grpSpPr>
          <a:xfrm>
            <a:off x="5600160" y="6068520"/>
            <a:ext cx="842040" cy="791640"/>
            <a:chOff x="5600160" y="6068520"/>
            <a:chExt cx="842040" cy="791640"/>
          </a:xfrm>
        </p:grpSpPr>
        <p:sp>
          <p:nvSpPr>
            <p:cNvPr id="152" name=""/>
            <p:cNvSpPr/>
            <p:nvPr/>
          </p:nvSpPr>
          <p:spPr>
            <a:xfrm>
              <a:off x="5600160" y="640044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 u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6013440" y="6068520"/>
              <a:ext cx="0" cy="49212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3B470-FC19-4AAA-A1A5-2F6857F5C1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3520" y="1787400"/>
            <a:ext cx="822960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P will create a Hill cipher for groups of 2 to 6 charac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790720" y="3552840"/>
            <a:ext cx="4735440" cy="30686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381560" y="3583080"/>
            <a:ext cx="1390680" cy="676080"/>
          </a:xfrm>
          <a:prstGeom prst="wedgeRoundRectCallout">
            <a:avLst>
              <a:gd name="adj1" fmla="val -43722"/>
              <a:gd name="adj2" fmla="val 60796"/>
              <a:gd name="adj3" fmla="val 16667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</a:rPr>
              <a:t>First, enter the group size – which is the same as the matrix 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81160" y="3068640"/>
            <a:ext cx="1390680" cy="676440"/>
          </a:xfrm>
          <a:prstGeom prst="wedgeRoundRectCallout">
            <a:avLst>
              <a:gd name="adj1" fmla="val -43722"/>
              <a:gd name="adj2" fmla="val 60796"/>
              <a:gd name="adj3" fmla="val 16667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</a:rPr>
              <a:t>CAP will generate a matrix for you or you can load 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AFC82-8B79-4929-BBFF-50B416FA1C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28T02:53:41Z</dcterms:modified>
  <cp:revision>68</cp:revision>
  <dc:subject/>
  <dc:title>CAP Cryptographic Analysis Program</dc:title>
</cp:coreProperties>
</file>